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FD06A-59EC-4E30-A480-BF2DD8811F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6B9BB-9C29-477D-BC07-6C11F0E341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FEAF5-137D-4DA9-ACB8-3585FC8BC0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D71AC-A1C4-4FE9-8AF8-01023C7BCE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E6B1F-36AA-41F8-B043-3F138DDE02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41DC1-2219-429C-9229-18104D81C5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5CC76-C9CF-4843-9E2C-3EB6583214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77960" y="4772160"/>
            <a:ext cx="6092640" cy="45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5493F-FBB9-4DDA-BD50-A7E13DD352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134C4-3D37-408E-A115-AC506A25C6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769B9-4B9B-45DF-8FB5-2EC1C7394D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224A8-9B4B-4CDD-B294-513B01AB02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EC43E-5266-4D6E-803F-30CC0D98FD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0F7E5-E637-495E-8B89-7D2EF210F2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ACEF1-917E-49B5-956B-6D3BD57FAF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B6145-353A-47C2-A55F-4034156BF3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0" y="2819520"/>
            <a:ext cx="5486400" cy="7617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Software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Ed McNierne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December 16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80880" y="34920"/>
            <a:ext cx="475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Top New Features in 8.2.0</a:t>
            </a:r>
            <a:br>
              <a:rPr sz="2800"/>
            </a:b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Graphical Control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793800" y="98568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New Home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467160" cy="210024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3745080" y="1447920"/>
            <a:ext cx="1587240" cy="1333440"/>
            <a:chOff x="3745080" y="1447920"/>
            <a:chExt cx="1587240" cy="1333440"/>
          </a:xfrm>
        </p:grpSpPr>
        <p:sp>
          <p:nvSpPr>
            <p:cNvPr id="154" name="Rectangle 5"/>
            <p:cNvSpPr/>
            <p:nvPr/>
          </p:nvSpPr>
          <p:spPr>
            <a:xfrm>
              <a:off x="3745080" y="1447920"/>
              <a:ext cx="15872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600" bIns="216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arch for activiti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ange view mod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unch Activity and add or delete from favorit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O icon brings up control pane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ctivity with the focu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Longer Battery Life</a:t>
            </a:r>
            <a:br>
              <a:rPr sz="2800"/>
            </a:br>
            <a:r>
              <a:rPr b="1" lang="en-US" sz="2000" spc="-1" strike="noStrike">
                <a:solidFill>
                  <a:srgbClr val="ff8080"/>
                </a:solidFill>
                <a:latin typeface="Arial"/>
              </a:rPr>
              <a:t>Two power saving mo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6400" t="9600" r="7200" b="13866"/>
          <a:stretch/>
        </p:blipFill>
        <p:spPr>
          <a:xfrm>
            <a:off x="396720" y="1138320"/>
            <a:ext cx="3291120" cy="21873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"/>
          <p:cNvGrpSpPr/>
          <p:nvPr/>
        </p:nvGrpSpPr>
        <p:grpSpPr>
          <a:xfrm>
            <a:off x="3897360" y="1219320"/>
            <a:ext cx="1587600" cy="1333440"/>
            <a:chOff x="3897360" y="1219320"/>
            <a:chExt cx="1587600" cy="1333440"/>
          </a:xfrm>
        </p:grpSpPr>
        <p:sp>
          <p:nvSpPr>
            <p:cNvPr id="158" name="Rectangle 5"/>
            <p:cNvSpPr/>
            <p:nvPr/>
          </p:nvSpPr>
          <p:spPr>
            <a:xfrm>
              <a:off x="3897360" y="1219320"/>
              <a:ext cx="158760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600" bIns="216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leep mode dims screen and slows CPU on id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reme mode does the same and shuts off wireless rad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oftware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18288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636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.0 – Activity updater, Backup to XS, Longer battery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6360" indent="-271440">
              <a:lnSpc>
                <a:spcPct val="98000"/>
              </a:lnSpc>
              <a:spcAft>
                <a:spcPts val="48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.0 – Focus on Reliability and Deploy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14520" indent="-271440">
              <a:lnSpc>
                <a:spcPct val="98000"/>
              </a:lnSpc>
              <a:spcAft>
                <a:spcPts val="48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se management, delegated signatures, WiFi up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14520" indent="-271440">
              <a:lnSpc>
                <a:spcPct val="98000"/>
              </a:lnSpc>
              <a:spcAft>
                <a:spcPts val="48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ora 10 base OS and application sup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14520" indent="-271440">
              <a:lnSpc>
                <a:spcPct val="98000"/>
              </a:lnSpc>
              <a:spcAft>
                <a:spcPts val="48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hanced power management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14520" indent="-271440">
              <a:lnSpc>
                <a:spcPct val="98000"/>
              </a:lnSpc>
              <a:spcAft>
                <a:spcPts val="488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M input support for localization and translation</a:t>
            </a:r>
            <a:br>
              <a:rPr sz="1200"/>
            </a:b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Dates and feature sets of future releases subject to chan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309600" y="1066680"/>
            <a:ext cx="494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1284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526896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1492200" y="990720"/>
            <a:ext cx="18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331632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84240" y="762120"/>
            <a:ext cx="761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 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173240" y="762120"/>
            <a:ext cx="761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979720" y="762120"/>
            <a:ext cx="762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4724280" y="762120"/>
            <a:ext cx="762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 20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27417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85572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60200" y="1523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ip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1247760" y="1523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1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1284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752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150984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6622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>
            <a:off x="211464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397044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3429000" y="1523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2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365760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4900680" y="1452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1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8"/>
          <p:cNvSpPr/>
          <p:nvPr/>
        </p:nvSpPr>
        <p:spPr>
          <a:xfrm>
            <a:off x="526896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434340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0"/>
          <p:cNvSpPr/>
          <p:nvPr/>
        </p:nvSpPr>
        <p:spPr>
          <a:xfrm>
            <a:off x="115884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1"/>
          <p:cNvSpPr/>
          <p:nvPr/>
        </p:nvSpPr>
        <p:spPr>
          <a:xfrm>
            <a:off x="18064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32"/>
          <p:cNvSpPr/>
          <p:nvPr/>
        </p:nvSpPr>
        <p:spPr>
          <a:xfrm>
            <a:off x="541440" y="107172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3"/>
          <p:cNvSpPr/>
          <p:nvPr/>
        </p:nvSpPr>
        <p:spPr>
          <a:xfrm>
            <a:off x="24177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4"/>
          <p:cNvSpPr/>
          <p:nvPr/>
        </p:nvSpPr>
        <p:spPr>
          <a:xfrm>
            <a:off x="30304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5"/>
          <p:cNvSpPr/>
          <p:nvPr/>
        </p:nvSpPr>
        <p:spPr>
          <a:xfrm>
            <a:off x="42940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45831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7"/>
          <p:cNvSpPr/>
          <p:nvPr/>
        </p:nvSpPr>
        <p:spPr>
          <a:xfrm>
            <a:off x="490680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8"/>
          <p:cNvSpPr/>
          <p:nvPr/>
        </p:nvSpPr>
        <p:spPr>
          <a:xfrm>
            <a:off x="228600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.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2895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oftware Technolog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echnologies in one lapto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h Networking/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ar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tore an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3429000" y="1752480"/>
            <a:ext cx="1752120" cy="1752480"/>
            <a:chOff x="3429000" y="1752480"/>
            <a:chExt cx="1752120" cy="1752480"/>
          </a:xfrm>
        </p:grpSpPr>
        <p:pic>
          <p:nvPicPr>
            <p:cNvPr id="133" name="Picture 5" descr=""/>
            <p:cNvPicPr/>
            <p:nvPr/>
          </p:nvPicPr>
          <p:blipFill>
            <a:blip r:embed="rId1"/>
            <a:stretch/>
          </p:blipFill>
          <p:spPr>
            <a:xfrm>
              <a:off x="3429000" y="1752480"/>
              <a:ext cx="1752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6"/>
            <p:cNvSpPr/>
            <p:nvPr/>
          </p:nvSpPr>
          <p:spPr>
            <a:xfrm>
              <a:off x="4743000" y="2550960"/>
              <a:ext cx="438120" cy="45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sleep on lid close or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level support for more aggressive susp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14 hours of battery life in sleep m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management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ook mode to &gt;10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ssive CPU su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Mesh and 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2.11b/g via infrastructure access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groups of simple mesh, WiFi school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on in small grou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802.11s evolution, enhanced scaling, develop robust middleware/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ner cases - many students start up at 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sharing at Activity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User Interfac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s: Home, Group, Neighborhood,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: People, Places, Objects,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collaboration and simpl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or share activities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performance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sh out the concept of Groups or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other desktops (KDE, Gn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support for existing Linux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Datastore / Journal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cs are created; by wh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use; auto s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nological list of activities/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 to XS backup for disaster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ing, integration with standard file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k file transfers, transfers outside of the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ioning, XO to XS backup general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theft of the delivery chain (one time activ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ed software (both OFW and 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 isolated from file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lease management (time-limi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solation from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igning, identity 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security manage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S School Server Softwar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ora-based OS; standard services (DHCP, DNS, Apache, upli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ache, local content and upgrades for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ce server for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ration and backup for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le support for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 for XO backup/restore to 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management of 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ing, Sca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Broader OS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t Sugar or other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 card or USB boot support buil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users OS options beyond standard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current OLPC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ora standard desktop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Windows XP on future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 members supporting Ubuntu, Debian, and other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inforces XO position as general-purpose, versatile hardware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4:10:07Z</dcterms:created>
  <dc:creator/>
  <dc:description>Camrbridge, MA
April 23-27, 2007
</dc:description>
  <dc:language>en-US</dc:language>
  <cp:lastModifiedBy> </cp:lastModifiedBy>
  <cp:lastPrinted>2008-09-10T16:24:23Z</cp:lastPrinted>
  <dcterms:modified xsi:type="dcterms:W3CDTF">2008-12-17T14:39:53Z</dcterms:modified>
  <cp:revision>83</cp:revision>
  <dc:subject/>
  <dc:title>One Laptop per Child</dc:title>
</cp:coreProperties>
</file>